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447B-283B-41C7-8B88-B3855D9C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DDA-799D-4798-9311-FC2C6990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E931-5A54-4E85-93E1-729764BE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634C-1A90-4197-B7AF-FC9C8F86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CE14-9A7E-464D-865E-8BF8C35E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E8B4-6818-4CDB-A93D-94ED9453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FBFF-03EC-4B8F-901B-283D801C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46D7-2E22-4FF7-8BA0-EC54FE85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5FE3-9698-4DE3-A83E-1D5F34DA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BD98-8B86-4C38-9663-E79E74DD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4727-340A-4CAD-A918-E7CFDD9B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C876-9928-4A5D-99F0-5A55B9A6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FB90-1CA3-42DA-92DE-54FBB735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E63D-C85C-4CA4-A8B3-4F7FBB56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A28A-C114-4FEE-B36D-48981A4B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32C9-7114-4CD6-B9D8-D47E139C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FE9A-1CD1-478D-862D-F0B062C8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EB38-0BDD-4C93-96A5-E00B3AFB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DB7C-FA86-4721-A059-D6598628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3C77-D39E-4E5D-B058-3C5F74E4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79D7-9B8A-4270-A58F-6004A6B7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E457-1C86-48FD-8EF3-B108AD4A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7332-8A00-4C85-8AF1-C1B3A287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2483-D21B-4346-B842-88EE2EBC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6B19-162A-456E-B2C1-99D7892F5B0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A963-D216-4BE5-A05E-89AE5516D78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</a:rPr>
              <a:t>第十三章  货币一体化理论与欧洲货币一体化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Theories of Currency Are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 European Monetary Integr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一节  最适货币区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、蒙代尔与最适货币区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最适货币区的两种类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单一货币的货币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多种货币并存并通过固定汇率机制连接的货币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两种货币区的调节机制比较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单一货币区内外均衡调节机制较优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最适货币区的条件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区内要素自由流动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对外实行浮动汇率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政治变革、主权让渡与政治同盟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传统分析法（最适货币区条件论）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最适货币区条件主要有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生产要素的流动性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开放程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产品多样性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一体化程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相近的通货膨胀率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政策一体化程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三、成本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—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收益分析法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国加入货币区，有成本，也有收益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收益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消除投机资本区内流动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节约外汇储备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推动经济政策一体化和经济一体化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政治收益：提高国际协议地位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成本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丧失货币政策自主性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财政政策自主性受到限制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增大失业增加的可能性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打破原有的国内均衡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二节  共同货币政策问题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共同货币单位与货币篮子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二、共同货币政策条件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三、单一货币问题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成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收益分析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收益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29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成本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29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三节  欧洲货币一体化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欧洲货币体系的形成与发展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货币体系的形成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货币体系的主要内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欧洲货币单位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联合浮动的汇率机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欧洲货币合作基金和信贷机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货币体系成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汇率最稳定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加强成员国在国际金融体系中地位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共同发展与政策协调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为单一货币奠定基础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欧洲货币联盟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欧洲货币联盟的产生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二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马斯特里赫特条约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与单一货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三、欧洲单一货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欧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01:12:03Z</dcterms:created>
  <dc:creator>MS User</dc:creator>
  <dc:description/>
  <dc:language>en-US</dc:language>
  <cp:lastModifiedBy>Dell</cp:lastModifiedBy>
  <dcterms:modified xsi:type="dcterms:W3CDTF">2021-08-23T22:50:40Z</dcterms:modified>
  <cp:revision>13</cp:revision>
  <dc:subject/>
  <dc:title>第八章  货币一体化理论与欧洲货币一体化</dc:title>
</cp:coreProperties>
</file>